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0B91-0FF1-4370-A849-5FB07E692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D568-7C7D-432F-930B-0C8EBC3A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415C-9F7E-44D3-BD53-56C83CC1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1246-835E-4946-B11C-9592A1FB0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CD21-2394-4475-9A6E-38BC5426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62AA-D491-4842-AFD2-FE577D07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8FAE-541A-4FC2-A5A0-F53B5209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FA06-3E2F-4AAE-9FC0-C12C8F78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FDF0-664A-464E-AA12-476554AA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E100-CB4D-4D51-B0FB-3C78AC2D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425E-9B60-4B89-A272-48AAB895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186B-DAE1-49A5-B804-4019F8BA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DD69-2290-4BC4-B701-58CB1284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9563-5A6F-4EFC-8DEF-8570D4D5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0012-4047-4C4A-B85A-21F7A983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8F57-3237-424F-9F04-78C4B8E4A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4B91-0269-415B-B8F4-80E5EA23E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7D6D-C68A-475D-B2B5-D4F8BA81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668C-6307-4DA9-98A5-6C087D1D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B9DC-5FAE-4145-BD75-B3AD1B3B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1E8C-51FE-4356-A7A3-4BCC353E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1D73-4DEB-4AAE-988C-EFC6A61E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FCA7-458D-46B1-9BA5-90FF8730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C01F-9703-4E28-8CB5-57C148CF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4BDE-B773-4C5A-95A0-DB76F9843D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CF45-775B-405C-8B63-01391775C1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Brooklyn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W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BEWEA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ir was a snake under the pile of leaves . And   it was fallowing me home.  At first I was a little scared. I was wandering if it was mind controled or somethin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458200" y="3581280"/>
            <a:ext cx="685800" cy="665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33520" y="3581280"/>
            <a:ext cx="685800" cy="662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886200" y="4419720"/>
            <a:ext cx="162576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6:11:20Z</dcterms:created>
  <dc:creator>demilovatorocks!</dc:creator>
  <dc:description/>
  <dc:language>en-US</dc:language>
  <cp:lastModifiedBy>demilovatorocks!</cp:lastModifiedBy>
  <dcterms:modified xsi:type="dcterms:W3CDTF">2010-10-25T18:08:51Z</dcterms:modified>
  <cp:revision>3</cp:revision>
  <dc:subject/>
  <dc:title>Brooklyn</dc:title>
</cp:coreProperties>
</file>